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Ravi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Ravi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Ravi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Ravi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Ravi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Ravi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Ravi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Ravi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Ravi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Ravi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Ravie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Ravi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Ravie"/>
              </a:rPr>
              <a:t>Click to edit the outline text format</a:t>
            </a: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Ravie"/>
              </a:rPr>
              <a:t>Second Outline Level</a:t>
            </a: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Ravie"/>
              </a:rPr>
              <a:t>Third Outline Level</a:t>
            </a: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Ravie"/>
              </a:rPr>
              <a:t>Fourth Outline Level</a:t>
            </a: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Ravie"/>
              </a:rPr>
              <a:t>Fifth Outline Level</a:t>
            </a: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Ravie"/>
              </a:rPr>
              <a:t>Sixth Outline Level</a:t>
            </a: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Ravie"/>
              </a:rPr>
              <a:t>Seventh Outline Level</a:t>
            </a: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522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00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Taryn Gillesp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Ravie"/>
              </a:rPr>
              <a:t>Do Boys See Different Optical Allusions Then Girls </a:t>
            </a:r>
            <a:endParaRPr b="0" lang="en-US" sz="4000" spc="-1" strike="noStrike">
              <a:solidFill>
                <a:srgbClr val="0000ff"/>
              </a:solidFill>
              <a:latin typeface="Ravi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Ravie"/>
              </a:rPr>
              <a:t>By Taryn Gillespie</a:t>
            </a: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Ravie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Ravi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Ravie"/>
              </a:rPr>
              <a:t>Boys saw more of normal illusions. On most of the boys answers their numbers were even like 50% on both. I think that the boys saw the illusions more evenly then the girls!  My hypothesis was incorrect. </a:t>
            </a: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Ravie"/>
              </a:rPr>
              <a:t>Work Cited</a:t>
            </a:r>
            <a:endParaRPr b="0" lang="en-US" sz="4400" spc="-1" strike="noStrike">
              <a:solidFill>
                <a:srgbClr val="0000ff"/>
              </a:solidFill>
              <a:latin typeface="Ravi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Ravie"/>
              </a:rPr>
              <a:t>Efirig, David E. "optical illutions." </a:t>
            </a:r>
            <a:r>
              <a:rPr b="0" i="1" lang="en-US" sz="3200" spc="-1" strike="noStrike">
                <a:solidFill>
                  <a:srgbClr val="ff0066"/>
                </a:solidFill>
                <a:latin typeface="Ravie"/>
              </a:rPr>
              <a:t>world book online</a:t>
            </a:r>
            <a:r>
              <a:rPr b="0" lang="en-US" sz="3200" spc="-1" strike="noStrike">
                <a:solidFill>
                  <a:srgbClr val="ff0066"/>
                </a:solidFill>
                <a:latin typeface="Ravie"/>
              </a:rPr>
              <a:t>. Web. 12 Jan. 2011. &lt;http://www.worldbookonline.com/pl/referencecenter/article?id=ar404180&amp;st=illusions&gt;.</a:t>
            </a: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Ravie"/>
              </a:rPr>
              <a:t>Problem</a:t>
            </a:r>
            <a:endParaRPr b="0" lang="en-US" sz="4400" spc="-1" strike="noStrike">
              <a:solidFill>
                <a:srgbClr val="0000ff"/>
              </a:solidFill>
              <a:latin typeface="Ravi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Ravie"/>
              </a:rPr>
              <a:t>What effect does gender have on how optical illusions are seen?</a:t>
            </a: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Ravie"/>
              </a:rPr>
              <a:t>Hypothesis</a:t>
            </a:r>
            <a:endParaRPr b="0" lang="en-US" sz="4400" spc="-1" strike="noStrike">
              <a:solidFill>
                <a:srgbClr val="0000ff"/>
              </a:solidFill>
              <a:latin typeface="Ravi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Ravie"/>
              </a:rPr>
              <a:t>I predict that they will see different things in the illusions because boys brains aren't fully developed until they are about 30!   Girls brain develop in there teens!  </a:t>
            </a: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Ravie"/>
              </a:rPr>
              <a:t>Materials</a:t>
            </a:r>
            <a:endParaRPr b="0" lang="en-US" sz="4400" spc="-1" strike="noStrike">
              <a:solidFill>
                <a:srgbClr val="0000ff"/>
              </a:solidFill>
              <a:latin typeface="Ravi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Ravie"/>
              </a:rPr>
              <a:t>Test subjects-</a:t>
            </a:r>
            <a:endParaRPr b="0" lang="en-US" sz="2800" spc="-1" strike="noStrike">
              <a:solidFill>
                <a:srgbClr val="ff0066"/>
              </a:solidFill>
              <a:latin typeface="Ravie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Ravie"/>
              </a:rPr>
              <a:t>Paper for subjects to write answers on</a:t>
            </a:r>
            <a:endParaRPr b="0" lang="en-US" sz="2800" spc="-1" strike="noStrike">
              <a:solidFill>
                <a:srgbClr val="ff0066"/>
              </a:solidFill>
              <a:latin typeface="Ravie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Ravie"/>
              </a:rPr>
              <a:t>Pencils for the subjects</a:t>
            </a:r>
            <a:endParaRPr b="0" lang="en-US" sz="2800" spc="-1" strike="noStrike">
              <a:solidFill>
                <a:srgbClr val="ff0066"/>
              </a:solidFill>
              <a:latin typeface="Ravie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Ravie"/>
              </a:rPr>
              <a:t>Smart board to show the slideshow</a:t>
            </a:r>
            <a:endParaRPr b="0" lang="en-US" sz="2800" spc="-1" strike="noStrike">
              <a:solidFill>
                <a:srgbClr val="ff0066"/>
              </a:solidFill>
              <a:latin typeface="Ravie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Ravie"/>
              </a:rPr>
              <a:t>Computer to make the slideshow</a:t>
            </a:r>
            <a:endParaRPr b="0" lang="en-US" sz="2800" spc="-1" strike="noStrike">
              <a:solidFill>
                <a:srgbClr val="ff0066"/>
              </a:solidFill>
              <a:latin typeface="Ravie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Ravie"/>
              </a:rPr>
              <a:t>Class room to do the experiment</a:t>
            </a:r>
            <a:endParaRPr b="0" lang="en-US" sz="2800" spc="-1" strike="noStrike">
              <a:solidFill>
                <a:srgbClr val="ff0066"/>
              </a:solidFill>
              <a:latin typeface="Ravi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Ravie"/>
              </a:rPr>
              <a:t>Procedure</a:t>
            </a:r>
            <a:endParaRPr b="0" lang="en-US" sz="4400" spc="-1" strike="noStrike">
              <a:solidFill>
                <a:srgbClr val="0000ff"/>
              </a:solidFill>
              <a:latin typeface="Ravi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Ravie"/>
              </a:rPr>
              <a:t>Make slideshow </a:t>
            </a:r>
            <a:r>
              <a:rPr b="0" lang="en-US" sz="2400" spc="-1" strike="noStrike">
                <a:solidFill>
                  <a:srgbClr val="ff0066"/>
                </a:solidFill>
                <a:latin typeface="Ravie"/>
              </a:rPr>
              <a:t>(Optical Illusions) </a:t>
            </a:r>
            <a:endParaRPr b="0" lang="en-US" sz="2400" spc="-1" strike="noStrike">
              <a:solidFill>
                <a:srgbClr val="ff0066"/>
              </a:solidFill>
              <a:latin typeface="Ravie"/>
            </a:endParaRPr>
          </a:p>
          <a:p>
            <a:pPr marL="343080" indent="-343080">
              <a:spcBef>
                <a:spcPts val="49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Ravie"/>
              </a:rPr>
              <a:t>Get room ready </a:t>
            </a:r>
            <a:r>
              <a:rPr b="0" lang="en-US" sz="2000" spc="-1" strike="noStrike">
                <a:solidFill>
                  <a:srgbClr val="ff0066"/>
                </a:solidFill>
                <a:latin typeface="Ravie"/>
              </a:rPr>
              <a:t>(including smart board) </a:t>
            </a:r>
            <a:endParaRPr b="0" lang="en-US" sz="2000" spc="-1" strike="noStrike">
              <a:solidFill>
                <a:srgbClr val="ff0066"/>
              </a:solidFill>
              <a:latin typeface="Ravie"/>
            </a:endParaRPr>
          </a:p>
          <a:p>
            <a:pPr marL="343080" indent="-343080">
              <a:spcBef>
                <a:spcPts val="4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Ravie"/>
              </a:rPr>
              <a:t>Find test subjects </a:t>
            </a:r>
            <a:r>
              <a:rPr b="0" lang="en-US" sz="2000" spc="-1" strike="noStrike">
                <a:solidFill>
                  <a:srgbClr val="ff0066"/>
                </a:solidFill>
                <a:latin typeface="Ravie"/>
              </a:rPr>
              <a:t>(8</a:t>
            </a:r>
            <a:r>
              <a:rPr b="0" lang="en-US" sz="2000" spc="-1" strike="noStrike" baseline="30000">
                <a:solidFill>
                  <a:srgbClr val="ff0066"/>
                </a:solidFill>
                <a:latin typeface="Ravie"/>
              </a:rPr>
              <a:t>th</a:t>
            </a:r>
            <a:r>
              <a:rPr b="0" lang="en-US" sz="2000" spc="-1" strike="noStrike">
                <a:solidFill>
                  <a:srgbClr val="ff0066"/>
                </a:solidFill>
                <a:latin typeface="Ravie"/>
              </a:rPr>
              <a:t> Grade Class)</a:t>
            </a:r>
            <a:endParaRPr b="0" lang="en-US" sz="2000" spc="-1" strike="noStrike">
              <a:solidFill>
                <a:srgbClr val="ff0066"/>
              </a:solidFill>
              <a:latin typeface="Ravie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Ravie"/>
              </a:rPr>
              <a:t>17 Girls</a:t>
            </a:r>
            <a:endParaRPr b="0" lang="en-US" sz="2400" spc="-1" strike="noStrike">
              <a:solidFill>
                <a:srgbClr val="ff0066"/>
              </a:solidFill>
              <a:latin typeface="Ravie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Ravie"/>
              </a:rPr>
              <a:t>22 Boys</a:t>
            </a:r>
            <a:endParaRPr b="0" lang="en-US" sz="2400" spc="-1" strike="noStrike">
              <a:solidFill>
                <a:srgbClr val="ff0066"/>
              </a:solidFill>
              <a:latin typeface="Ravie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Ravie"/>
              </a:rPr>
              <a:t>Sit them down and explain the testing </a:t>
            </a:r>
            <a:endParaRPr b="0" lang="en-US" sz="2800" spc="-1" strike="noStrike">
              <a:solidFill>
                <a:srgbClr val="ff0066"/>
              </a:solidFill>
              <a:latin typeface="Ravie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Ravie"/>
              </a:rPr>
              <a:t>Record their answers</a:t>
            </a:r>
            <a:endParaRPr b="0" lang="en-US" sz="2800" spc="-1" strike="noStrike">
              <a:solidFill>
                <a:srgbClr val="ff0066"/>
              </a:solidFill>
              <a:latin typeface="Ravie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Ravie"/>
              </a:rPr>
              <a:t>Make Table of Results</a:t>
            </a:r>
            <a:endParaRPr b="0" lang="en-US" sz="2800" spc="-1" strike="noStrike">
              <a:solidFill>
                <a:srgbClr val="ff0066"/>
              </a:solidFill>
              <a:latin typeface="Ravi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Ravie"/>
              </a:rPr>
              <a:t>Causes of error</a:t>
            </a:r>
            <a:endParaRPr b="0" lang="en-US" sz="4400" spc="-1" strike="noStrike">
              <a:solidFill>
                <a:srgbClr val="0000ff"/>
              </a:solidFill>
              <a:latin typeface="Ravi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Ravie"/>
              </a:rPr>
              <a:t>People could look at it too long and not right down the first thing they see!</a:t>
            </a: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Ravie"/>
              </a:rPr>
              <a:t>Results</a:t>
            </a:r>
            <a:endParaRPr b="0" lang="en-US" sz="4400" spc="-1" strike="noStrike">
              <a:solidFill>
                <a:srgbClr val="0000ff"/>
              </a:solidFill>
              <a:latin typeface="Ravi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Ravie"/>
              </a:rPr>
              <a:t>Girls Table &amp; Boys Table on Next two slides. </a:t>
            </a: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" y="0"/>
          <a:ext cx="8610120" cy="6400440"/>
        </p:xfrm>
        <a:graphic>
          <a:graphicData uri="http://schemas.openxmlformats.org/drawingml/2006/table">
            <a:tbl>
              <a:tblPr/>
              <a:tblGrid>
                <a:gridCol w="1215360"/>
                <a:gridCol w="1431360"/>
                <a:gridCol w="5963400"/>
              </a:tblGrid>
              <a:tr h="72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GIRL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Center + Sign?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66"/>
                          </a:solidFill>
                          <a:latin typeface="Arial"/>
                          <a:ea typeface="Arial"/>
                        </a:rPr>
                        <a:t>The Objects Seen in the Picture.  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Shandi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ld people, cup 3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3300"/>
                    </a:solidFill>
                  </a:tcPr>
                </a:tc>
              </a:tr>
              <a:tr h="333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Lindsey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66"/>
                          </a:solidFill>
                          <a:latin typeface="Arial"/>
                          <a:ea typeface="Arial"/>
                        </a:rPr>
                        <a:t>4 THINGS SEEN: guys a woman, light 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000"/>
                    </a:solidFill>
                  </a:tcPr>
                </a:tc>
              </a:tr>
              <a:tr h="332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Breckyn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66"/>
                          </a:solidFill>
                          <a:latin typeface="Arial"/>
                          <a:ea typeface="Arial"/>
                        </a:rPr>
                        <a:t>4 THINGS SEEN:</a:t>
                      </a:r>
                      <a:r>
                        <a:rPr b="0" lang="en-US" sz="800" spc="-1" strike="noStrike">
                          <a:solidFill>
                            <a:srgbClr val="ff0066"/>
                          </a:solidFill>
                          <a:latin typeface="Arial"/>
                          <a:ea typeface="Arial"/>
                        </a:rPr>
                        <a:t>2 old people, person in girls face, I person guitar</a:t>
                      </a:r>
                      <a:r>
                        <a:rPr b="0" lang="en-US" sz="1000" spc="-1" strike="noStrike">
                          <a:solidFill>
                            <a:srgbClr val="ff0066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000"/>
                    </a:solidFill>
                  </a:tcPr>
                </a:tc>
              </a:tr>
              <a:tr h="335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Brityn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THINGS SEEN old people 2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</a:tr>
              <a:tr h="333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Kandra 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THINGS SEEN old people 2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</a:tr>
              <a:tr h="333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Haylie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THINGS SEEN mexicans, a man leaning on a wall 3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3300"/>
                    </a:solidFill>
                  </a:tcPr>
                </a:tc>
              </a:tr>
              <a:tr h="333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Cara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 THINGS SEEN mexicans, old people, woman in doorway 5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</a:tr>
              <a:tr h="33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Rachel W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66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THING SEEN mexican woman 1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6600"/>
                    </a:solidFill>
                  </a:tcPr>
                </a:tc>
              </a:tr>
              <a:tr h="333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Jaynssa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THINGS SEEN old people, light,  3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3300"/>
                    </a:solidFill>
                  </a:tcPr>
                </a:tc>
              </a:tr>
              <a:tr h="333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Rachel V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66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ff0066"/>
                          </a:solidFill>
                          <a:latin typeface="Arial"/>
                          <a:ea typeface="Arial"/>
                        </a:rPr>
                        <a:t>6 THINGS SEEN</a:t>
                      </a:r>
                      <a:r>
                        <a:rPr b="0" lang="en-US" sz="800" spc="-1" strike="noStrike">
                          <a:solidFill>
                            <a:srgbClr val="ff0066"/>
                          </a:solidFill>
                          <a:latin typeface="Arial"/>
                          <a:ea typeface="Arial"/>
                        </a:rPr>
                        <a:t> old people, mexicans, woman in doorway, cup 6</a:t>
                      </a:r>
                      <a:endParaRPr b="0" lang="en-US" sz="8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333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Sarah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66"/>
                          </a:solidFill>
                          <a:latin typeface="Arial"/>
                          <a:ea typeface="Arial"/>
                        </a:rPr>
                        <a:t>6 THINGS SEEN </a:t>
                      </a:r>
                      <a:r>
                        <a:rPr b="0" lang="en-US" sz="600" spc="-1" strike="noStrike">
                          <a:solidFill>
                            <a:srgbClr val="ff0066"/>
                          </a:solidFill>
                          <a:latin typeface="Arial"/>
                          <a:ea typeface="Arial"/>
                        </a:rPr>
                        <a:t>old people, mexicans, vase, a person dancing at the wall 6</a:t>
                      </a:r>
                      <a:endParaRPr b="0" lang="en-US" sz="6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33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Chelsey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THING SEEN a vase 1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6600"/>
                    </a:solidFill>
                  </a:tcPr>
                </a:tc>
              </a:tr>
              <a:tr h="333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Destiny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 THINGS SEEN old people, mexians 4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000"/>
                    </a:solidFill>
                  </a:tcPr>
                </a:tc>
              </a:tr>
              <a:tr h="333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Julia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 THINGS SEEN old people, vase, mexicans 5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</a:tr>
              <a:tr h="333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Andi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66"/>
                          </a:solidFill>
                          <a:latin typeface="Arial"/>
                          <a:ea typeface="Arial"/>
                        </a:rPr>
                        <a:t>6 THINGS SEEN old people, cup, mexicans, girl in ear 6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335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Kayli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 THINGS SEEN old people, mexicans 4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000"/>
                    </a:solidFill>
                  </a:tcPr>
                </a:tc>
              </a:tr>
              <a:tr h="333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Kendrah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 THINGS SEEN old people, mexicans, and girl in ear 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304920" y="228600"/>
          <a:ext cx="8533800" cy="5866920"/>
        </p:xfrm>
        <a:graphic>
          <a:graphicData uri="http://schemas.openxmlformats.org/drawingml/2006/table">
            <a:tbl>
              <a:tblPr/>
              <a:tblGrid>
                <a:gridCol w="1234800"/>
                <a:gridCol w="1513440"/>
                <a:gridCol w="5785560"/>
              </a:tblGrid>
              <a:tr h="266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Dylan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THINGS SEEN old people, mexicans 3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3300"/>
                    </a:solidFill>
                  </a:tcPr>
                </a:tc>
              </a:tr>
              <a:tr h="266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Zane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THINGS SEEN old people 2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</a:tr>
              <a:tr h="266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Dalla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 THINGS SEEN five faces 5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</a:tr>
              <a:tr h="266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Jayde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THINGS SEEN old people 2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</a:tr>
              <a:tr h="266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Luc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THINGS SEEN old people, light 3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3300"/>
                    </a:solidFill>
                  </a:tcPr>
                </a:tc>
              </a:tr>
              <a:tr h="267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Alex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 THINGS SEEN old people, mexicans 4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000"/>
                    </a:solidFill>
                  </a:tcPr>
                </a:tc>
              </a:tr>
              <a:tr h="266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Bobby 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THINGS SEEN old people, vase 3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3300"/>
                    </a:solidFill>
                  </a:tcPr>
                </a:tc>
              </a:tr>
              <a:tr h="266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Jake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THINGS SEEN old people, lamp  3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3300"/>
                    </a:solidFill>
                  </a:tcPr>
                </a:tc>
              </a:tr>
              <a:tr h="266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Chase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 THINGS SEEN  old people, mexican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000"/>
                    </a:solidFill>
                  </a:tcPr>
                </a:tc>
              </a:tr>
              <a:tr h="266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Gu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THINGS SEEN mexicans, lamp 3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3300"/>
                    </a:solidFill>
                  </a:tcPr>
                </a:tc>
              </a:tr>
              <a:tr h="266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Scott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66"/>
                          </a:solidFill>
                          <a:latin typeface="Arial"/>
                          <a:ea typeface="Arial"/>
                        </a:rPr>
                        <a:t>6 THINGS SEEN 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266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Michah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 THINGS SEEN old people, light, cup, statue 5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</a:tr>
              <a:tr h="266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Kody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THINGS SEEN ole people, glass 3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3300"/>
                    </a:solidFill>
                  </a:tcPr>
                </a:tc>
              </a:tr>
              <a:tr h="266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Cameron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THING SEEN wine glass 1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6600"/>
                    </a:solidFill>
                  </a:tcPr>
                </a:tc>
              </a:tr>
              <a:tr h="266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Caleb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THING SEEN mexican man 1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6600"/>
                    </a:solidFill>
                  </a:tcPr>
                </a:tc>
              </a:tr>
              <a:tr h="267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Brian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 THINGS SEEN old people, mexicans, lady in door 5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</a:tr>
              <a:tr h="266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Andrew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 THINGS SEEN old people, mexicans, cup 5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</a:tr>
              <a:tr h="266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Ian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THINGS SEEN old people, cup 3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3300"/>
                    </a:solidFill>
                  </a:tcPr>
                </a:tc>
              </a:tr>
              <a:tr h="266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Tracy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 THINGS SEEN old people, mexicans, girl in door 5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</a:tr>
              <a:tr h="266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Jordan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THINGS SEEN ole people, mexican man 3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3300"/>
                    </a:solidFill>
                  </a:tcPr>
                </a:tc>
              </a:tr>
              <a:tr h="266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Henry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 THINGS SEEN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000"/>
                    </a:solidFill>
                  </a:tcPr>
                </a:tc>
              </a:tr>
              <a:tr h="266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Cody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 THINGS SEEN old people, mexicans, girl in door 5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20:12:20Z</dcterms:created>
  <dc:creator>USD376</dc:creator>
  <dc:description/>
  <dc:language>en-US</dc:language>
  <cp:lastModifiedBy>USD376</cp:lastModifiedBy>
  <dcterms:modified xsi:type="dcterms:W3CDTF">2011-02-22T20:32:52Z</dcterms:modified>
  <cp:revision>10</cp:revision>
  <dc:subject/>
  <dc:title>Do Boys See Different Optical Allusions Then Girls </dc:title>
</cp:coreProperties>
</file>